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DFA-0FF6-4BF4-A94A-DCD31494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5E4-6540-4B73-9DC2-F77B1F71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725-6915-4899-B811-ED6C54FD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903-1F81-4026-92C9-DB53572C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8C0B-C9B9-42AD-BFEC-C614457C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A8A-B24D-407E-BA04-D090B770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58B2-D9EE-4367-99AF-F4CDC4EB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A18-A894-46CE-B54B-00A11752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A7F-00DB-4FEB-9038-375216A2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996-380E-449A-96DC-9FE1736C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00E-5152-4180-A7A3-1D62CFEB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843-0900-40AF-85FC-B15DD2C7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063E-461D-47E3-9B52-1CF8C7F11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51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1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discover the meaning of unknown wo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2004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y do you think it is important to know a lot of word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279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4572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ncuss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erfora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15238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nser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371600" y="4343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expedi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15238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Perme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9907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mpan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914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xcess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5335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 you read, try to learn two new word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t us know if you come across our prefixes of the da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blanks on your exit s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, com= ________, together,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-,ex-,ef-=  Out,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er= ____________, ___________, wro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/Com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n/Com= with, together, very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6386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304920"/>
          <a:ext cx="8229600" cy="6171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-, ex-, ef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, 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89240" y="228600"/>
            <a:ext cx="4464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= through, thorough, wro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62120" y="609480"/>
            <a:ext cx="1981080" cy="1752840"/>
          </a:xfrm>
          <a:custGeom>
            <a:avLst/>
            <a:gdLst>
              <a:gd name="textAreaLeft" fmla="*/ 113400 w 1981080"/>
              <a:gd name="textAreaRight" fmla="*/ 1867680 w 198108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24412" h="21600">
                <a:moveTo>
                  <a:pt x="0" y="0"/>
                </a:moveTo>
                <a:lnTo>
                  <a:pt x="24412" y="0"/>
                </a:lnTo>
                <a:lnTo>
                  <a:pt x="24412" y="21600"/>
                </a:lnTo>
                <a:lnTo>
                  <a:pt x="0" y="21600"/>
                </a:lnTo>
                <a:close/>
              </a:path>
              <a:path fill="lightenLess" w="24412" h="21600">
                <a:moveTo>
                  <a:pt x="0" y="0"/>
                </a:moveTo>
                <a:lnTo>
                  <a:pt x="24412" y="0"/>
                </a:lnTo>
                <a:lnTo>
                  <a:pt x="23012" y="1400"/>
                </a:lnTo>
                <a:lnTo>
                  <a:pt x="1400" y="1400"/>
                </a:lnTo>
                <a:close/>
              </a:path>
              <a:path fill="darken" w="24412" h="21600">
                <a:moveTo>
                  <a:pt x="24412" y="0"/>
                </a:moveTo>
                <a:lnTo>
                  <a:pt x="24412" y="21600"/>
                </a:lnTo>
                <a:lnTo>
                  <a:pt x="23012" y="20200"/>
                </a:lnTo>
                <a:lnTo>
                  <a:pt x="23012" y="1400"/>
                </a:lnTo>
                <a:close/>
              </a:path>
              <a:path fill="darkenLess" w="24412" h="21600">
                <a:moveTo>
                  <a:pt x="24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2" y="20200"/>
                </a:lnTo>
                <a:close/>
              </a:path>
              <a:path fill="lighten" w="24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09480"/>
            <a:ext cx="2133720" cy="1676520"/>
          </a:xfrm>
          <a:custGeom>
            <a:avLst/>
            <a:gdLst>
              <a:gd name="textAreaLeft" fmla="*/ 108360 w 2133720"/>
              <a:gd name="textAreaRight" fmla="*/ 2025360 w 21337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09480"/>
            <a:ext cx="1904760" cy="1676520"/>
          </a:xfrm>
          <a:custGeom>
            <a:avLst/>
            <a:gdLst>
              <a:gd name="textAreaLeft" fmla="*/ 108360 w 1904760"/>
              <a:gd name="textAreaRight" fmla="*/ 1796400 w 19047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0" h="21600">
                <a:moveTo>
                  <a:pt x="0" y="0"/>
                </a:moveTo>
                <a:lnTo>
                  <a:pt x="24540" y="0"/>
                </a:lnTo>
                <a:lnTo>
                  <a:pt x="24540" y="21600"/>
                </a:lnTo>
                <a:lnTo>
                  <a:pt x="0" y="21600"/>
                </a:lnTo>
                <a:close/>
              </a:path>
              <a:path fill="lightenLess" w="24540" h="21600">
                <a:moveTo>
                  <a:pt x="0" y="0"/>
                </a:moveTo>
                <a:lnTo>
                  <a:pt x="24540" y="0"/>
                </a:lnTo>
                <a:lnTo>
                  <a:pt x="23140" y="1400"/>
                </a:lnTo>
                <a:lnTo>
                  <a:pt x="1400" y="1400"/>
                </a:lnTo>
                <a:close/>
              </a:path>
              <a:path fill="darken" w="24540" h="21600">
                <a:moveTo>
                  <a:pt x="24540" y="0"/>
                </a:moveTo>
                <a:lnTo>
                  <a:pt x="24540" y="21600"/>
                </a:lnTo>
                <a:lnTo>
                  <a:pt x="23140" y="20200"/>
                </a:lnTo>
                <a:lnTo>
                  <a:pt x="23140" y="1400"/>
                </a:lnTo>
                <a:close/>
              </a:path>
              <a:path fill="darkenLess" w="24540" h="21600">
                <a:moveTo>
                  <a:pt x="2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0" y="20200"/>
                </a:lnTo>
                <a:close/>
              </a:path>
              <a:path fill="lighten" w="2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666880"/>
            <a:ext cx="1981080" cy="1676520"/>
          </a:xfrm>
          <a:custGeom>
            <a:avLst/>
            <a:gdLst>
              <a:gd name="textAreaLeft" fmla="*/ 108360 w 1981080"/>
              <a:gd name="textAreaRight" fmla="*/ 1872720 w 19810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666880"/>
            <a:ext cx="1904760" cy="1600200"/>
          </a:xfrm>
          <a:custGeom>
            <a:avLst/>
            <a:gdLst>
              <a:gd name="textAreaLeft" fmla="*/ 103680 w 1904760"/>
              <a:gd name="textAreaRight" fmla="*/ 1801080 w 190476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5710" h="21600">
                <a:moveTo>
                  <a:pt x="0" y="0"/>
                </a:moveTo>
                <a:lnTo>
                  <a:pt x="25710" y="0"/>
                </a:lnTo>
                <a:lnTo>
                  <a:pt x="25710" y="21600"/>
                </a:lnTo>
                <a:lnTo>
                  <a:pt x="0" y="21600"/>
                </a:lnTo>
                <a:close/>
              </a:path>
              <a:path fill="lightenLess" w="25710" h="21600">
                <a:moveTo>
                  <a:pt x="0" y="0"/>
                </a:moveTo>
                <a:lnTo>
                  <a:pt x="25710" y="0"/>
                </a:lnTo>
                <a:lnTo>
                  <a:pt x="24310" y="1400"/>
                </a:lnTo>
                <a:lnTo>
                  <a:pt x="1400" y="1400"/>
                </a:lnTo>
                <a:close/>
              </a:path>
              <a:path fill="darken" w="25710" h="21600">
                <a:moveTo>
                  <a:pt x="25710" y="0"/>
                </a:moveTo>
                <a:lnTo>
                  <a:pt x="25710" y="21600"/>
                </a:lnTo>
                <a:lnTo>
                  <a:pt x="24310" y="20200"/>
                </a:lnTo>
                <a:lnTo>
                  <a:pt x="24310" y="1400"/>
                </a:lnTo>
                <a:close/>
              </a:path>
              <a:path fill="darkenLess" w="25710" h="21600">
                <a:moveTo>
                  <a:pt x="25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10" y="20200"/>
                </a:lnTo>
                <a:close/>
              </a:path>
              <a:path fill="lighten" w="25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666880"/>
            <a:ext cx="1981440" cy="1676520"/>
          </a:xfrm>
          <a:custGeom>
            <a:avLst/>
            <a:gdLst>
              <a:gd name="textAreaLeft" fmla="*/ 108360 w 1981440"/>
              <a:gd name="textAreaRight" fmla="*/ 1873080 w 19814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5528" h="21600">
                <a:moveTo>
                  <a:pt x="0" y="0"/>
                </a:moveTo>
                <a:lnTo>
                  <a:pt x="25528" y="0"/>
                </a:lnTo>
                <a:lnTo>
                  <a:pt x="25528" y="21600"/>
                </a:lnTo>
                <a:lnTo>
                  <a:pt x="0" y="21600"/>
                </a:lnTo>
                <a:close/>
              </a:path>
              <a:path fill="lightenLess" w="25528" h="21600">
                <a:moveTo>
                  <a:pt x="0" y="0"/>
                </a:moveTo>
                <a:lnTo>
                  <a:pt x="25528" y="0"/>
                </a:lnTo>
                <a:lnTo>
                  <a:pt x="24128" y="1400"/>
                </a:lnTo>
                <a:lnTo>
                  <a:pt x="1400" y="1400"/>
                </a:lnTo>
                <a:close/>
              </a:path>
              <a:path fill="darken" w="25528" h="21600">
                <a:moveTo>
                  <a:pt x="25528" y="0"/>
                </a:moveTo>
                <a:lnTo>
                  <a:pt x="25528" y="21600"/>
                </a:lnTo>
                <a:lnTo>
                  <a:pt x="24128" y="20200"/>
                </a:lnTo>
                <a:lnTo>
                  <a:pt x="24128" y="1400"/>
                </a:lnTo>
                <a:close/>
              </a:path>
              <a:path fill="darkenLess" w="25528" h="21600">
                <a:moveTo>
                  <a:pt x="25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8" y="20200"/>
                </a:lnTo>
                <a:close/>
              </a:path>
              <a:path fill="lighten" w="25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800600"/>
            <a:ext cx="1981080" cy="1576440"/>
          </a:xfrm>
          <a:custGeom>
            <a:avLst/>
            <a:gdLst>
              <a:gd name="textAreaLeft" fmla="*/ 101880 w 1981080"/>
              <a:gd name="textAreaRight" fmla="*/ 1879200 w 1981080"/>
              <a:gd name="textAreaTop" fmla="*/ 101880 h 1576440"/>
              <a:gd name="textAreaBottom" fmla="*/ 1474560 h 1576440"/>
            </a:gdLst>
            <a:ahLst/>
            <a:rect l="textAreaLeft" t="textAreaTop" r="textAreaRight" b="textAreaBottom"/>
            <a:pathLst>
              <a:path w="27143" h="21600">
                <a:moveTo>
                  <a:pt x="0" y="0"/>
                </a:moveTo>
                <a:lnTo>
                  <a:pt x="27143" y="0"/>
                </a:lnTo>
                <a:lnTo>
                  <a:pt x="27143" y="21600"/>
                </a:lnTo>
                <a:lnTo>
                  <a:pt x="0" y="21600"/>
                </a:lnTo>
                <a:close/>
              </a:path>
              <a:path fill="lightenLess" w="27143" h="21600">
                <a:moveTo>
                  <a:pt x="0" y="0"/>
                </a:moveTo>
                <a:lnTo>
                  <a:pt x="27143" y="0"/>
                </a:lnTo>
                <a:lnTo>
                  <a:pt x="25743" y="1400"/>
                </a:lnTo>
                <a:lnTo>
                  <a:pt x="1400" y="1400"/>
                </a:lnTo>
                <a:close/>
              </a:path>
              <a:path fill="darken" w="27143" h="21600">
                <a:moveTo>
                  <a:pt x="27143" y="0"/>
                </a:moveTo>
                <a:lnTo>
                  <a:pt x="27143" y="21600"/>
                </a:lnTo>
                <a:lnTo>
                  <a:pt x="25743" y="20200"/>
                </a:lnTo>
                <a:lnTo>
                  <a:pt x="25743" y="1400"/>
                </a:lnTo>
                <a:close/>
              </a:path>
              <a:path fill="darkenLess" w="27143" h="21600">
                <a:moveTo>
                  <a:pt x="27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43" y="20200"/>
                </a:lnTo>
                <a:close/>
              </a:path>
              <a:path fill="lighten" w="27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80060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724280"/>
            <a:ext cx="1981080" cy="1600200"/>
          </a:xfrm>
          <a:custGeom>
            <a:avLst/>
            <a:gdLst>
              <a:gd name="textAreaLeft" fmla="*/ 103680 w 1981080"/>
              <a:gd name="textAreaRight" fmla="*/ 1877400 w 19810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5340" y="1400"/>
                </a:lnTo>
                <a:lnTo>
                  <a:pt x="1400" y="1400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5340" y="20200"/>
                </a:lnTo>
                <a:lnTo>
                  <a:pt x="25340" y="1400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0" y="20200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xal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380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2:27:22Z</dcterms:created>
  <dc:creator>Administrator</dc:creator>
  <dc:description/>
  <dc:language>en-US</dc:language>
  <cp:lastModifiedBy>Administrator</cp:lastModifiedBy>
  <dcterms:modified xsi:type="dcterms:W3CDTF">2010-09-15T19:12:53Z</dcterms:modified>
  <cp:revision>6</cp:revision>
  <dc:subject/>
  <dc:title>Do Now 9-15 I can discover the meaning of unknown words.</dc:title>
</cp:coreProperties>
</file>